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573C-562A-4D25-9A00-AD8F6ED6646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5FE-96DD-4001-989C-2D90B1E883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D9E2-F7C2-4BFB-8238-EFCED80FE1D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9BD-9AC4-4D4D-8D2D-1C76DC3A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1A1-4426-4A08-8D76-37200BE7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BB9-CC0E-4048-B483-ED98A61C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3F4-39CB-4191-BA28-6615D10C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B83-54D3-4FB3-B4BB-D85B4FF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97E-0748-4FE8-BFCD-D8ACE60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4E5-8DE6-4E9F-BD23-CF2312A7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9DD-5809-476D-B91A-A57049B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AA2-D59A-4738-8AE1-B346738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311-80EA-4C85-945A-E6BB9B0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5F6-7194-441F-B5CF-078DFA7C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C73-EB91-4E4C-B817-F017E469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58B-B0B8-46C3-93E6-7187C993E79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61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ETABOLISMO DE CARBOHID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Digestión y absorción de hidratos de carb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Ingreso de la glucosa a la célula. Transport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Glucólisis y su regul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etabolismo de fructosa, galactosa, etanol y sorbit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Lanzadera del glicerofosf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193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alibri"/>
              </a:rPr>
              <a:t>PROCESOS MEDIADOS</a:t>
            </a:r>
            <a:br>
              <a:rPr sz="2900"/>
            </a:br>
            <a:r>
              <a:rPr b="1" lang="es-ES_tradnl" sz="2900" spc="-1" strike="noStrike">
                <a:solidFill>
                  <a:srgbClr val="c00000"/>
                </a:solidFill>
                <a:latin typeface="Calibri"/>
              </a:rPr>
              <a:t>clases generales según el gasto energétic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0" y="163116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0" y="462780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427640" y="162864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24360" y="472428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www.educ.ar/dinamico/UnidadHtml__get__138a6c5e-c845-11e0-834c-e7f760fda940/imagenes/image006.jpg"/>
          <p:cNvPicPr/>
          <p:nvPr/>
        </p:nvPicPr>
        <p:blipFill>
          <a:blip r:embed="rId1"/>
          <a:stretch/>
        </p:blipFill>
        <p:spPr>
          <a:xfrm>
            <a:off x="428760" y="714240"/>
            <a:ext cx="7358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202" name="4 CuadroTexto"/>
          <p:cNvSpPr/>
          <p:nvPr/>
        </p:nvSpPr>
        <p:spPr>
          <a:xfrm>
            <a:off x="0" y="142920"/>
            <a:ext cx="835488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S MED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204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8"/>
          <p:cNvSpPr/>
          <p:nvPr/>
        </p:nvSpPr>
        <p:spPr>
          <a:xfrm>
            <a:off x="4859280" y="407664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2"/>
          <p:cNvSpPr/>
          <p:nvPr/>
        </p:nvSpPr>
        <p:spPr>
          <a:xfrm>
            <a:off x="8152560" y="261648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Facilitado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Fru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hepatocitos y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ancreática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484920" y="337176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637560" y="364320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637560" y="5643720"/>
            <a:ext cx="79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Flecha abajo"/>
          <p:cNvSpPr/>
          <p:nvPr/>
        </p:nvSpPr>
        <p:spPr>
          <a:xfrm>
            <a:off x="4500720" y="32148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se convierte en 2 TRIO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2 moléculas de 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 CuadroTexto"/>
          <p:cNvSpPr/>
          <p:nvPr/>
        </p:nvSpPr>
        <p:spPr>
          <a:xfrm>
            <a:off x="440640" y="5429160"/>
            <a:ext cx="8004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357120" y="7275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gliceraldehido-3-fosfato. Este proceso consume 2 AT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piruvato, con la producción de 4 ATPs y 2 NA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289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293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8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298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305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312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316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324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328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54 CuadroTexto"/>
          <p:cNvSpPr/>
          <p:nvPr/>
        </p:nvSpPr>
        <p:spPr>
          <a:xfrm>
            <a:off x="6933960" y="641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 X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2411280" y="1989000"/>
            <a:ext cx="0" cy="2735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613480" y="1773360"/>
            <a:ext cx="319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tialina o 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584680" y="4724280"/>
            <a:ext cx="2829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768280" y="3716280"/>
            <a:ext cx="23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nactiva la enz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42920" y="115920"/>
            <a:ext cx="889308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igestión y absorción de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77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81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3"/>
          <p:cNvGrpSpPr/>
          <p:nvPr/>
        </p:nvGrpSpPr>
        <p:grpSpPr>
          <a:xfrm>
            <a:off x="6886440" y="3213000"/>
            <a:ext cx="1873440" cy="1226160"/>
            <a:chOff x="6886440" y="3213000"/>
            <a:chExt cx="1873440" cy="1226160"/>
          </a:xfrm>
        </p:grpSpPr>
        <p:graphicFrame>
          <p:nvGraphicFramePr>
            <p:cNvPr id="85" name="Object 16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Text Box 17"/>
            <p:cNvSpPr/>
            <p:nvPr/>
          </p:nvSpPr>
          <p:spPr>
            <a:xfrm>
              <a:off x="7360920" y="4040280"/>
              <a:ext cx="119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8"/>
          <p:cNvSpPr/>
          <p:nvPr/>
        </p:nvSpPr>
        <p:spPr>
          <a:xfrm>
            <a:off x="7273080" y="4543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7150320" y="50482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92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97" name="Arc 25"/>
            <p:cNvSpPr/>
            <p:nvPr/>
          </p:nvSpPr>
          <p:spPr>
            <a:xfrm flipH="1">
              <a:off x="6084720" y="3645000"/>
              <a:ext cx="432000" cy="503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100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101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6886440" y="3213000"/>
            <a:ext cx="2153880" cy="2644200"/>
            <a:chOff x="6886440" y="3213000"/>
            <a:chExt cx="2153880" cy="2644200"/>
          </a:xfrm>
        </p:grpSpPr>
        <p:graphicFrame>
          <p:nvGraphicFramePr>
            <p:cNvPr id="106" name="Object 8"/>
            <p:cNvGraphicFramePr/>
            <p:nvPr/>
          </p:nvGraphicFramePr>
          <p:xfrm>
            <a:off x="6886440" y="321300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9"/>
            <p:cNvSpPr/>
            <p:nvPr/>
          </p:nvSpPr>
          <p:spPr>
            <a:xfrm>
              <a:off x="7319880" y="4040280"/>
              <a:ext cx="115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7212240" y="4543560"/>
              <a:ext cx="1828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111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920320" y="16344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Calibri"/>
              </a:rPr>
              <a:t>Digestión del Almidó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490720" y="38815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4f81bd"/>
                </a:solidFill>
                <a:latin typeface="Calibri"/>
              </a:rPr>
              <a:t>α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-dextr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126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127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8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9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8"/>
              <p:cNvSpPr/>
              <p:nvPr/>
            </p:nvSpPr>
            <p:spPr>
              <a:xfrm>
                <a:off x="447372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32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137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140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141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2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3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25"/>
              <p:cNvSpPr/>
              <p:nvPr/>
            </p:nvSpPr>
            <p:spPr>
              <a:xfrm>
                <a:off x="41299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6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7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0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1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2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154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157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158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59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5"/>
              <p:cNvSpPr/>
              <p:nvPr/>
            </p:nvSpPr>
            <p:spPr>
              <a:xfrm>
                <a:off x="424008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3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4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5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67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68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9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171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9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s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a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4-09-17T23:39:35Z</dcterms:modified>
  <cp:revision>120</cp:revision>
  <dc:subject/>
  <dc:title>Diapositiva 1</dc:title>
</cp:coreProperties>
</file>